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98A-EDA6-48FB-916F-F06E0F35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080-A902-45D9-A0F6-C8B8A01C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74E-C1C1-4571-966E-B1A6D22F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F60-B28E-4751-ACB7-CD3512FB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88DC-2053-4D6C-B9D7-02916C0D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018-B92D-4950-87F1-B839D41C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9C52-FB6D-4F81-A34D-62392A1B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80FE-BCC6-4BA5-B17E-E9F29F42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03B3-BFBA-45C5-BC2D-26F792EF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D30F-CFB7-4089-A499-9F61B37F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45F7-63B9-4CE1-ABAB-8C34A87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753-7F6C-45DF-8C5E-42B0F225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A4BF-A63A-427F-ABD3-B583A99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65E9-B59F-4003-BD4E-B81D454B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A7ED-8D96-4436-B7FF-941E2A66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944C-CF50-4899-8E67-BA310697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53EB-B73B-4EAA-8A9F-C8C81FDB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08F-ABFD-41CA-919D-2A778476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889-543D-4C92-BE4D-12439F09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8B7-1E85-4EA1-9F86-2FC9DAD4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71C-6DEF-453D-8363-E077062F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FC6-7E21-43C3-A50E-6600BC04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AFA-35BD-4D4B-B751-EE400F3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8FD-18F6-4822-9895-40D1F06E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EF27-CF33-49E8-86C9-79F5F0640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24A-4A18-452D-A3C1-5093CF11E6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ell Parts and Func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9720" y="1904760"/>
            <a:ext cx="4425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ructures within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 in storing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ing energy, building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iring cell parts, getting r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waste materials, respon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 environment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oduc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structures are call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rganel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ning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redbloodcells"/>
          <p:cNvPicPr/>
          <p:nvPr/>
        </p:nvPicPr>
        <p:blipFill>
          <a:blip r:embed="rId1"/>
          <a:stretch/>
        </p:blipFill>
        <p:spPr>
          <a:xfrm>
            <a:off x="228600" y="1996920"/>
            <a:ext cx="3886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Black"/>
              </a:rPr>
              <a:t>Ribosom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22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where proteins ar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, grain like bodies made primarily of 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ttached to ER or floating free in cytopla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ribosomes"/>
          <p:cNvPicPr/>
          <p:nvPr/>
        </p:nvPicPr>
        <p:blipFill>
          <a:blip r:embed="rId1"/>
          <a:stretch/>
        </p:blipFill>
        <p:spPr>
          <a:xfrm>
            <a:off x="0" y="2081160"/>
            <a:ext cx="45975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Mitochond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19720" y="1828800"/>
            <a:ext cx="422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generators of the cell—relea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 shaped organ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 outer membrane and greatly folded inner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mitochondria pic1"/>
          <p:cNvPicPr/>
          <p:nvPr/>
        </p:nvPicPr>
        <p:blipFill>
          <a:blip r:embed="rId1"/>
          <a:stretch/>
        </p:blipFill>
        <p:spPr>
          <a:xfrm>
            <a:off x="533520" y="1981080"/>
            <a:ext cx="37004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Vaculo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17600" y="1752480"/>
            <a:ext cx="4226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age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-filled membrane surrounded cavities inside a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in plant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9" descr="vacuole pic 2"/>
          <p:cNvPicPr/>
          <p:nvPr/>
        </p:nvPicPr>
        <p:blipFill>
          <a:blip r:embed="rId1"/>
          <a:stretch/>
        </p:blipFill>
        <p:spPr>
          <a:xfrm>
            <a:off x="0" y="1770120"/>
            <a:ext cx="47656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Arial Black"/>
              </a:rPr>
              <a:t>Golgi B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22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kages protein and carbohydrates for export from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tened, layered, sac-like structure located near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golgi bodies pic 1"/>
          <p:cNvPicPr/>
          <p:nvPr/>
        </p:nvPicPr>
        <p:blipFill>
          <a:blip r:embed="rId1"/>
          <a:stretch/>
        </p:blipFill>
        <p:spPr>
          <a:xfrm>
            <a:off x="0" y="1836720"/>
            <a:ext cx="45784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 Black"/>
              </a:rPr>
              <a:t>Centrio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66720" y="1752480"/>
            <a:ext cx="4226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divide the nucleus during mi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ed of small spi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centriole"/>
          <p:cNvPicPr/>
          <p:nvPr/>
        </p:nvPicPr>
        <p:blipFill>
          <a:blip r:embed="rId1"/>
          <a:stretch/>
        </p:blipFill>
        <p:spPr>
          <a:xfrm>
            <a:off x="533520" y="1752480"/>
            <a:ext cx="3490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226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cide s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in animal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 organelles surrounded by a membrane that contain digestive enzy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lysosomes"/>
          <p:cNvPicPr/>
          <p:nvPr/>
        </p:nvPicPr>
        <p:blipFill>
          <a:blip r:embed="rId1"/>
          <a:stretch/>
        </p:blipFill>
        <p:spPr>
          <a:xfrm>
            <a:off x="0" y="223344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9"/>
          <p:cNvSpPr txBox="1"/>
          <p:nvPr/>
        </p:nvSpPr>
        <p:spPr>
          <a:xfrm>
            <a:off x="2895480" y="533520"/>
            <a:ext cx="36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ysosom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bel your plant cell diagra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Picture 6" descr="plant cell pic 3"/>
          <p:cNvPicPr/>
          <p:nvPr/>
        </p:nvPicPr>
        <p:blipFill>
          <a:blip r:embed="rId1"/>
          <a:stretch/>
        </p:blipFill>
        <p:spPr>
          <a:xfrm>
            <a:off x="1447920" y="1357200"/>
            <a:ext cx="7238880" cy="51912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7315200" y="3276720"/>
            <a:ext cx="1371600" cy="337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Centrio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7315200" y="2514600"/>
            <a:ext cx="1371600" cy="338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Chloroplas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05520" y="175248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isc shaped organelle containing chlorophy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synthesis takes place in the chloropl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picture - cell wall"/>
          <p:cNvPicPr/>
          <p:nvPr/>
        </p:nvPicPr>
        <p:blipFill>
          <a:blip r:embed="rId1"/>
          <a:stretch/>
        </p:blipFill>
        <p:spPr>
          <a:xfrm>
            <a:off x="0" y="2173320"/>
            <a:ext cx="50292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Black"/>
              </a:rPr>
              <a:t>Cell Wa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17600" y="2133360"/>
            <a:ext cx="4226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, rigid membrane that surrounds the 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ds with other cell walls to form the structure of the 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plant cell wall"/>
          <p:cNvPicPr/>
          <p:nvPr/>
        </p:nvPicPr>
        <p:blipFill>
          <a:blip r:embed="rId1"/>
          <a:stretch/>
        </p:blipFill>
        <p:spPr>
          <a:xfrm>
            <a:off x="533520" y="1731960"/>
            <a:ext cx="42321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98208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Label your animal cell diagram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7" descr="animal cell pic 2"/>
          <p:cNvPicPr/>
          <p:nvPr/>
        </p:nvPicPr>
        <p:blipFill>
          <a:blip r:embed="rId1"/>
          <a:stretch/>
        </p:blipFill>
        <p:spPr>
          <a:xfrm>
            <a:off x="990720" y="990720"/>
            <a:ext cx="7810560" cy="5678280"/>
          </a:xfrm>
          <a:prstGeom prst="rect">
            <a:avLst/>
          </a:prstGeom>
          <a:ln w="0">
            <a:noFill/>
          </a:ln>
        </p:spPr>
      </p:pic>
      <p:cxnSp>
        <p:nvCxnSpPr>
          <p:cNvPr id="103" name="AutoShape 3"/>
          <p:cNvCxnSpPr/>
          <p:nvPr/>
        </p:nvCxnSpPr>
        <p:spPr>
          <a:xfrm rot="5400000">
            <a:off x="4190400" y="4648320"/>
            <a:ext cx="305280" cy="305280"/>
          </a:xfrm>
          <a:prstGeom prst="curvedConnector5">
            <a:avLst>
              <a:gd name="adj1" fmla="val 49940"/>
              <a:gd name="adj2" fmla="val 49940"/>
              <a:gd name="adj3" fmla="val 49940"/>
            </a:avLst>
          </a:prstGeom>
          <a:ln w="19080">
            <a:solidFill>
              <a:srgbClr val="663300">
                <a:alpha val="89000"/>
              </a:srgbClr>
            </a:solidFill>
            <a:miter/>
          </a:ln>
        </p:spPr>
      </p:cxnSp>
      <p:cxnSp>
        <p:nvCxnSpPr>
          <p:cNvPr id="104" name="AutoShape 4"/>
          <p:cNvCxnSpPr/>
          <p:nvPr/>
        </p:nvCxnSpPr>
        <p:spPr>
          <a:xfrm rot="10800000">
            <a:off x="4190400" y="4647600"/>
            <a:ext cx="305280" cy="305280"/>
          </a:xfrm>
          <a:prstGeom prst="curvedConnector5">
            <a:avLst>
              <a:gd name="adj1" fmla="val 49940"/>
              <a:gd name="adj2" fmla="val 49940"/>
              <a:gd name="adj3" fmla="val 49940"/>
            </a:avLst>
          </a:prstGeom>
          <a:ln w="9360">
            <a:solidFill>
              <a:srgbClr val="663300"/>
            </a:solidFill>
            <a:miter/>
          </a:ln>
        </p:spPr>
      </p:cxnSp>
      <p:cxnSp>
        <p:nvCxnSpPr>
          <p:cNvPr id="105" name="Straight Arrow Connector 23"/>
          <p:cNvCxnSpPr/>
          <p:nvPr/>
        </p:nvCxnSpPr>
        <p:spPr>
          <a:xfrm flipH="1" flipV="1">
            <a:off x="4419000" y="4800600"/>
            <a:ext cx="2819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TextBox 26"/>
          <p:cNvSpPr/>
          <p:nvPr/>
        </p:nvSpPr>
        <p:spPr>
          <a:xfrm>
            <a:off x="7238880" y="47242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33"/>
                </a:solidFill>
                <a:latin typeface="Arial"/>
              </a:rPr>
              <a:t>Chromoso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6629400" y="1676520"/>
            <a:ext cx="15238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Centrio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Cell Membran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s what materials enter or leave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the cell to change shape under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flexible envelope surrounding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http://library.thinkquest.org/C004535/media/cell_membrane.gif"/>
          <p:cNvPicPr/>
          <p:nvPr/>
        </p:nvPicPr>
        <p:blipFill>
          <a:blip r:embed="rId1"/>
          <a:stretch/>
        </p:blipFill>
        <p:spPr>
          <a:xfrm>
            <a:off x="228600" y="1981080"/>
            <a:ext cx="47386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 Black"/>
              </a:rPr>
              <a:t>Nucle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center of the cell that directs all cell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chromosomes and nucleolus, DNA, and 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http://universe-review.ca/I10-04-cellnucleus.jpg"/>
          <p:cNvPicPr/>
          <p:nvPr/>
        </p:nvPicPr>
        <p:blipFill>
          <a:blip r:embed="rId1"/>
          <a:stretch/>
        </p:blipFill>
        <p:spPr>
          <a:xfrm>
            <a:off x="546120" y="1523880"/>
            <a:ext cx="4430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uclear Membran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s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 from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s that 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eave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nucleus picture"/>
          <p:cNvPicPr/>
          <p:nvPr/>
        </p:nvPicPr>
        <p:blipFill>
          <a:blip r:embed="rId1"/>
          <a:stretch/>
        </p:blipFill>
        <p:spPr>
          <a:xfrm>
            <a:off x="304920" y="1957320"/>
            <a:ext cx="446076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Arial Black"/>
              </a:rPr>
              <a:t>Nucleol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ark spot found inside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dense organelle within the nucleus where RNA is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up of RNA and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nucleolusfigure1"/>
          <p:cNvPicPr/>
          <p:nvPr/>
        </p:nvPicPr>
        <p:blipFill>
          <a:blip r:embed="rId1"/>
          <a:stretch/>
        </p:blipFill>
        <p:spPr>
          <a:xfrm>
            <a:off x="228600" y="2131920"/>
            <a:ext cx="42782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 Black"/>
              </a:rPr>
              <a:t>Chromosom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rge mass of thin threads made of D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finished products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es on the traits of the cell to new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chromosomes"/>
          <p:cNvPicPr/>
          <p:nvPr/>
        </p:nvPicPr>
        <p:blipFill>
          <a:blip r:embed="rId1"/>
          <a:stretch/>
        </p:blipFill>
        <p:spPr>
          <a:xfrm>
            <a:off x="304920" y="1676520"/>
            <a:ext cx="438444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Cytopla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23920" y="1904760"/>
            <a:ext cx="4226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ly like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between the nucleus and the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living material of the cell, outside of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plant cell pic 3"/>
          <p:cNvPicPr/>
          <p:nvPr/>
        </p:nvPicPr>
        <p:blipFill>
          <a:blip r:embed="rId1"/>
          <a:stretch/>
        </p:blipFill>
        <p:spPr>
          <a:xfrm>
            <a:off x="304920" y="1981080"/>
            <a:ext cx="4537080" cy="3805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3962520" y="2895480"/>
            <a:ext cx="83808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 Black"/>
              </a:rPr>
              <a:t>Endoplasmic Reticulu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22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 and rough 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bular passageways that lead out from the nuclear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substances back and forth from the nucleus to the other parts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endoplasmic reticulum pic2"/>
          <p:cNvPicPr/>
          <p:nvPr/>
        </p:nvPicPr>
        <p:blipFill>
          <a:blip r:embed="rId1"/>
          <a:stretch/>
        </p:blipFill>
        <p:spPr>
          <a:xfrm>
            <a:off x="228600" y="2133720"/>
            <a:ext cx="44877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23:01:23Z</dcterms:created>
  <dc:creator>siobhan.mcneill</dc:creator>
  <dc:description/>
  <dc:language>en-US</dc:language>
  <cp:lastModifiedBy>sbms</cp:lastModifiedBy>
  <dcterms:modified xsi:type="dcterms:W3CDTF">2011-08-31T13:48:45Z</dcterms:modified>
  <cp:revision>34</cp:revision>
  <dc:subject/>
  <dc:title>Cells</dc:title>
</cp:coreProperties>
</file>